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11.wav" ContentType="audio/x-wav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ACF-2D40-4D17-BDFD-3A078631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B1E-7D36-4D90-A2F9-07359183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F3C-C99E-45AF-B4B4-0372B49C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508-3CA7-4400-B674-96B10817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AE4A-70DD-46E0-94C7-DF7CC07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C2D6-63B4-4118-A40E-4C34A09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4680-8D23-48C7-98EA-5D4F5646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112C-CAD5-4FC7-AC0E-53463F1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D96D-C698-441B-A169-054362CE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6F1-7B75-4D58-B19E-85E3D06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0C1-D74E-4423-A86A-B98E9C6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61E-4D28-4B63-8D6C-CBA0B7F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0F4-DFE2-46E0-B701-63F7672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6AFD-32B8-4659-B212-4353F8F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9BB-E8D2-462C-A4BD-A8CB4C6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DE2B-D5C4-48C6-876A-B0633BEA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EB2-5F18-4FA0-89AC-E6BCFDD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90B-D2BC-4511-94CB-49CDCF1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6EB-95F2-45E7-9E06-3504C37A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728-D5E6-464B-8146-B18C3CB7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5A8-B110-4560-B246-17B9E8B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697-7C7D-4B40-AE12-BAB036A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7D-F18E-49B3-B97C-9FF59F1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064-D1DC-48D0-8BE4-BE03AD2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D07-1EF7-4C36-8AD3-A23CB30933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2080-DB6A-4A18-A9C0-645BD906CC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5.png"/><Relationship Id="rId6" Type="http://schemas.openxmlformats.org/officeDocument/2006/relationships/audio" Target="../media/11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809880" cy="283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3503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Plant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03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89120" y="0"/>
            <a:ext cx="6003000" cy="2959920"/>
            <a:chOff x="2589120" y="0"/>
            <a:chExt cx="6003000" cy="2959920"/>
          </a:xfrm>
        </p:grpSpPr>
        <p:sp>
          <p:nvSpPr>
            <p:cNvPr id="85" name=""/>
            <p:cNvSpPr/>
            <p:nvPr/>
          </p:nvSpPr>
          <p:spPr>
            <a:xfrm>
              <a:off x="7037280" y="2354400"/>
              <a:ext cx="98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riol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2120" y="253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4000" y="49824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09200" y="825120"/>
              <a:ext cx="904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9120" y="1467360"/>
              <a:ext cx="1232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2200" y="2439720"/>
              <a:ext cx="143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99720" y="1404000"/>
              <a:ext cx="11818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91080" y="95832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25840" y="535680"/>
              <a:ext cx="1031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9560" y="17856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66240" y="0"/>
              <a:ext cx="985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4647960" cy="3157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209680" y="3200400"/>
            <a:ext cx="6807960" cy="3659400"/>
            <a:chOff x="2209680" y="3200400"/>
            <a:chExt cx="6807960" cy="3659400"/>
          </a:xfrm>
        </p:grpSpPr>
        <p:sp>
          <p:nvSpPr>
            <p:cNvPr id="98" name=""/>
            <p:cNvSpPr/>
            <p:nvPr/>
          </p:nvSpPr>
          <p:spPr>
            <a:xfrm>
              <a:off x="7754040" y="4851360"/>
              <a:ext cx="904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8280" y="4192200"/>
              <a:ext cx="985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5240" y="361440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0320" y="3200400"/>
              <a:ext cx="1902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34640" y="60541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86840" y="6552720"/>
              <a:ext cx="25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endoplasmic 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6920" y="55551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5901840"/>
              <a:ext cx="14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3040" y="650088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2960" y="489924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 w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3000" y="4453920"/>
              <a:ext cx="1047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1480" y="396216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6480" y="3298680"/>
              <a:ext cx="82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709-72D8-4B93-87AE-CFABF8D66095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5d7e"/>
                </a:solidFill>
                <a:uFillTx/>
                <a:latin typeface="Comic Sans MS"/>
              </a:rPr>
              <a:t>Ribosome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Make proteins = protein factories of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Found on rough endoplasmic ret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Factory"/>
          <p:cNvPicPr/>
          <p:nvPr/>
        </p:nvPicPr>
        <p:blipFill>
          <a:blip r:embed="rId2"/>
          <a:stretch/>
        </p:blipFill>
        <p:spPr>
          <a:xfrm>
            <a:off x="5410080" y="1371600"/>
            <a:ext cx="3505320" cy="196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791320" y="3581280"/>
            <a:ext cx="2541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F92-6BA7-4ABF-9F40-A0AAAF519208}" type="slidenum">
              <a:t>10</a:t>
            </a:fld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Smooth &amp; Rough Endoplasmic Reticulum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573360" cy="4343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899800"/>
            <a:ext cx="518148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Smooth ER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lacks ribosom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Rough ER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has ribosomes on its surface that make proteins, which are sent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-60120" y="167544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s an internal membran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ransport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6E8-864C-40C6-BF7E-04CC2580BE69}" type="slidenum">
              <a:t>11</a:t>
            </a:fld>
          </a:p>
        </p:txBody>
      </p:sp>
    </p:spTree>
  </p:cSld>
  <p:transition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90760" cy="3073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4500" t="0" r="0" b="6000"/>
          <a:stretch/>
        </p:blipFill>
        <p:spPr>
          <a:xfrm>
            <a:off x="4800600" y="22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Smooth &amp; Rough Endoplasmic Reticulum (continue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AE3-713E-4501-950E-7575606ACF74}" type="slidenum">
              <a:t>12</a:t>
            </a:fld>
          </a:p>
        </p:txBody>
      </p:sp>
    </p:spTree>
  </p:cSld>
  <p:transition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Golgi Apparatu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tack of flattened membranes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(like pancake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ceive &amp;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ange proteins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made by rough ER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-attach carbohydrates &amp; lipids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to protei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id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ecre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-transport vesicle pinch off en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3352680" cy="2685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563868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0281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ransport vesi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019920" y="4495320"/>
            <a:ext cx="121896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07F-9706-4810-AFFF-56F90CA21442}" type="slidenum">
              <a:t>13</a:t>
            </a:fld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3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495680" cy="262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7500" t="10000" r="4500" b="14000"/>
          <a:stretch/>
        </p:blipFill>
        <p:spPr>
          <a:xfrm>
            <a:off x="2971800" y="3886200"/>
            <a:ext cx="3886200" cy="2637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Golgi Apparatus (continue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521-DF92-426A-BA13-1C135D67C76C}" type="slidenum">
              <a:t>14</a:t>
            </a:fld>
          </a:p>
        </p:txBody>
      </p:sp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Lysosome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lled with digestive enzy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Breaks down food into useful parti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lso breaks down worn- out cell organelles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16199" r="0" b="0"/>
          <a:stretch/>
        </p:blipFill>
        <p:spPr>
          <a:xfrm>
            <a:off x="5410080" y="2195640"/>
            <a:ext cx="3505320" cy="22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183-25A4-4065-934E-44F19A301645}" type="slidenum">
              <a:t>15</a:t>
            </a:fld>
          </a:p>
        </p:txBody>
      </p:sp>
    </p:spTree>
  </p:cSld>
  <p:transition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438280"/>
            <a:ext cx="4952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Site of cellul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respiration: whe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food is burned to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get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133524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335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Mitochondria: Cell Powerhouse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203976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952880" y="2438280"/>
            <a:ext cx="4191120" cy="30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F6B-49A8-4E39-B29F-22BF251AF9C6}" type="slidenum">
              <a:t>16</a:t>
            </a:fld>
          </a:p>
        </p:txBody>
      </p:sp>
    </p:spTree>
  </p:cSld>
  <p:transition>
    <p:wipe dir="r"/>
    <p:sndAc>
      <p:stSnd>
        <p:snd r:embed="rId6" name="11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Vacuole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480" y="1142640"/>
            <a:ext cx="563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Storage spaces within cel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Hold either food or wa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y be absent in some animal cel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04812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4B0-5722-4FD1-BEE2-C772C82E5979}" type="slidenum">
              <a:t>17</a:t>
            </a:fld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4305600" cy="3510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75080" y="1828800"/>
            <a:ext cx="6669360" cy="3295440"/>
            <a:chOff x="1675080" y="1828800"/>
            <a:chExt cx="6669360" cy="3295440"/>
          </a:xfrm>
        </p:grpSpPr>
        <p:sp>
          <p:nvSpPr>
            <p:cNvPr id="113" name=""/>
            <p:cNvSpPr/>
            <p:nvPr/>
          </p:nvSpPr>
          <p:spPr>
            <a:xfrm>
              <a:off x="6753240" y="4712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riol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9000" y="21387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7120" y="243900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1440" y="2839680"/>
              <a:ext cx="1031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5080" y="3626280"/>
              <a:ext cx="1232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6040" y="481716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54920" y="3548520"/>
              <a:ext cx="1216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3400" y="300240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4760" y="2485080"/>
              <a:ext cx="1031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8560" y="204768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61160" y="1828800"/>
              <a:ext cx="1040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5d7e"/>
                </a:solidFill>
                <a:uFillTx/>
                <a:latin typeface="Comic Sans MS"/>
              </a:rPr>
              <a:t>Basic Structure of an Animal Ce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F4D-44DB-4DAF-A510-4616DBC4F3B7}" type="slidenum">
              <a:t>2</a:t>
            </a:fld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Hemi Head 426"/>
              </a:rPr>
              <a:t>Basic Cell Structures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-nucleol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-nuclear envel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4876920" cy="35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3B5-A1EC-4CB7-9A80-EF29A80686F0}" type="slidenum">
              <a:t>3</a:t>
            </a:fld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47920"/>
            <a:ext cx="4419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Comic Sans MS"/>
                <a:ea typeface="新細明體"/>
              </a:rPr>
              <a:t>Is a thin, flexible barrier around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新細明體"/>
              </a:rPr>
              <a:t>Controls what enters and exits a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新細明體"/>
              </a:rPr>
              <a:t>Made of proteins and 2 layers of lip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Cell Membran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C5A-95FC-4EDF-9B33-D66A418076B8}" type="slidenum">
              <a:t>4</a:t>
            </a:fld>
          </a:p>
        </p:txBody>
      </p:sp>
    </p:spTree>
  </p:cSld>
  <p:transition>
    <p:wipe dir="r"/>
    <p:sndAc>
      <p:stSnd>
        <p:snd r:embed="rId3" name="11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905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新細明體"/>
              </a:rPr>
              <a:t>Controls most cell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Contains DNA (genetic mater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-DNA found in chroma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Comic Sans MS"/>
                <a:ea typeface="新細明體"/>
              </a:rPr>
              <a:t>Chromatin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= granular mater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seen in nucle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新細明體"/>
              </a:rPr>
              <a:t>Chromatin condenses t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  <a:ea typeface="新細明體"/>
              </a:rPr>
              <a:t>chromosomes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新細明體"/>
              </a:rPr>
              <a:t> (control tra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52280"/>
          <a:ext cx="13716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280"/>
                    <a:ext cx="1371600" cy="1371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Nucleus: The Control Center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8224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DD4-67DC-430C-8CD6-9F5CCC0C78B6}" type="slidenum">
              <a:t>5</a:t>
            </a:fld>
          </a:p>
        </p:txBody>
      </p:sp>
    </p:spTree>
  </p:cSld>
  <p:transition>
    <p:wipe dir="r"/>
    <p:sndAc>
      <p:stSnd>
        <p:snd r:embed="rId5" name="11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Nucleolu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a small dense region in the nucle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Makes ribosomes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, which make protei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162920" y="21906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2560680" cy="2095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867280" y="4191120"/>
            <a:ext cx="2590920" cy="2395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573880" y="1143000"/>
            <a:ext cx="25398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78C-EF0A-45EF-BAC1-8D666FE636D9}" type="slidenum">
              <a:t>6</a:t>
            </a:fld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Surrounds the nucle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Has nuclear pores that allow material to move in and out of the nucle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dc2a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457200"/>
          <a:ext cx="19814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198144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Nuclear Envelop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B2A-6A90-42A2-96AF-8671BAECCE1D}" type="slidenum">
              <a:t>7</a:t>
            </a:fld>
          </a:p>
        </p:txBody>
      </p:sp>
    </p:spTree>
  </p:cSld>
  <p:transition>
    <p:wipe dir="r"/>
    <p:sndAc>
      <p:stSnd>
        <p:snd r:embed="rId5" name="11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80880" y="1752480"/>
            <a:ext cx="4800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7792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  <a:ea typeface="新細明體"/>
              </a:rPr>
              <a:t>Clear, jelly-like material within cell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277920">
              <a:lnSpc>
                <a:spcPct val="100000"/>
              </a:lnSpc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27792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Contains organelles to carry out certain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Cytoplasm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533840" cy="33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BC3-5AE2-4044-AA81-5F9503689152}" type="slidenum">
              <a:t>8</a:t>
            </a:fld>
          </a:p>
        </p:txBody>
      </p:sp>
    </p:spTree>
  </p:cSld>
  <p:transition>
    <p:wipe dir="r"/>
    <p:sndAc>
      <p:stSnd>
        <p:snd r:embed="rId3" name="11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Organelles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新細明體"/>
              </a:rPr>
              <a:t>Very small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80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omic Sans MS"/>
                <a:ea typeface="新細明體"/>
              </a:rPr>
              <a:t>Can only be observed under a micro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新細明體"/>
              </a:rPr>
              <a:t>Have specific function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  <a:ea typeface="新細明體"/>
              </a:rPr>
              <a:t>Found throughout cytoplas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7DD-1BA3-45C2-B5C1-9F93AB6847DD}" type="slidenum">
              <a:t>9</a:t>
            </a:fld>
          </a:p>
        </p:txBody>
      </p:sp>
    </p:spTree>
  </p:cSld>
  <p:transition>
    <p:wipe dir="r"/>
    <p:sndAc>
      <p:stSnd>
        <p:snd r:embed="rId2" name="11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0T01:40:41Z</dcterms:created>
  <dc:creator>Terry</dc:creator>
  <dc:description/>
  <dc:language>en-US</dc:language>
  <cp:lastModifiedBy>Theresa DeLaurentis</cp:lastModifiedBy>
  <dcterms:modified xsi:type="dcterms:W3CDTF">2007-03-06T04:44:52Z</dcterms:modified>
  <cp:revision>95</cp:revision>
  <dc:subject/>
  <dc:title>Chapter 3 The Basic Structure of a Cell</dc:title>
</cp:coreProperties>
</file>